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ABAB-CD86-4080-8E44-955DBF3E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02F-A31A-49EF-95AF-30C6615C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42F2-062E-4EF8-905A-17A666412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E05-8BA0-4453-BED9-EC1FF5D8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8033-F2D8-4F29-AE7A-FE4345B9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3894-E422-4852-8418-B7258F46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C4EE-3162-4E89-B913-329DC34D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C0A7-5713-4C1F-83D1-304F0283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0E9F-CE52-4173-B5A2-596CA212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6963-9995-44F1-A74F-66572FD9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9BE4-158D-466B-9CCB-B6AD1323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D677-35A9-4350-9C9B-13491C32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CC5C-53F4-465B-AD4C-9B632A444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TROL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Manualul de Chim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clasa a X-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odica Constantinescu, Maria-Luiza Popesc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ele cercetări legate de cunoaşterea compoz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ie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ui românesc au fost iniţiate la sfârşitul secolului trecut de către Petru Poni (1841 - 1925) la Iaşi, care a izolat anumiţi termeni ai seriilor de hidrocarburi din pe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 un amestec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e hidrocarburi gazoase şi solide, dizolvate în hidrocarburi lichide. Hidrocarburile frecvent întâlnite în compoziţia petrolului aparţin în general seriei alcanilor, cicloalcanilor (naftene) şi arene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lchenele şi alchinele mai reactive lipsesc din petrol. Pe lângă hidrocarburile menţionate, în petrol mai apar şi compuşi organici cu oxigen, azot sau sulf, în cantităţi foarte mi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lful trebuie îndepărtat în cursul prelucrării petrolului, deoarece prin ardere rezultă dioxid de sulf (un gaz corozi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funcţie de locul zăcământului şi de condiţiile în care acesta s-a format, în compoziţia petrolului pot predomina una sau alta dintre aceste clase de hidrocarbur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/>
          <a:srcRect l="0" t="9999" r="0" b="9999"/>
          <a:stretch/>
        </p:blipFill>
        <p:spPr>
          <a:xfrm>
            <a:off x="5181480" y="762120"/>
            <a:ext cx="36007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trolul es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 lichid vâscos, de culoare brună, cu fluorescenţă verde-albăstruie, cu miros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nsitatea petrolului este mai mică decât a apei, variind între 0,800 şi 0,930 g/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e insolubil în apă, formând cu aceasta o emuls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racarea este procesul în care au loc ruperi ale unor legături simple C-C din alcani şi cicloalcani. Cracarea poate fi termică sau catalit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teriile prime folosite la cracarea termică sunt motorina şi păcura, iar produşii rezultaţi sunt alcani şi alchene inferioare, numite gaze de cracare, benzină de cracare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racarea catalitică foloseşte în special motorina ca materie primă. Se obţin gaze de rafinărie, benzină mai bună decât cea obţinută prin cracarea termică şi cocs petrol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Ştiaţi c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În urma prelucrării complexe a petrolului se obţin circa 300 de prod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etanul este principalul constituent al gazelor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Gazele naturale, care însoţesc în general zăcămintele de petrol, sunt o sursă de materii prime pentru obţinerea de produse: îngrăşăminte, mase plastice, cauciuc cloroprenic, acetilenă, metanol, formaldehidă, solvenţi, hidrogen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7b2</cp:lastModifiedBy>
  <dcterms:modified xsi:type="dcterms:W3CDTF">2012-06-19T10:51:26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